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FD3-E834-4F77-9EBF-344A0AF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72F-0CBA-44B1-93FD-FFBB361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B6A-8380-43BC-8023-DBD17869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88C-77F9-4345-B35E-0D9EF731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76A-90CD-4D6A-9E86-F1B77BF7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DF7-96F3-4BB2-A23B-8B99323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E45-4A8D-4A20-A192-BB51135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9F1-2E25-4671-929D-7B5ED666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0EA-99F5-4C5E-B8BE-36F8D7F7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20F-1A28-4EEF-B725-A833CA9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0CA-8910-4D1D-B664-0C9F775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237-0562-4C1C-B929-5656B466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8C60-541A-4858-BD1A-D8E8783A0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sentation of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Cronk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866960" cy="17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562720" y="3352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2971800" cy="252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5053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Alg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Ravie"/>
              </a:rPr>
              <a:t>Ra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0598600">
            <a:off x="2895480" y="2209320"/>
            <a:ext cx="45151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the background and insert picture from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20:06Z</dcterms:created>
  <dc:creator>CGB</dc:creator>
  <dc:description/>
  <dc:language>en-US</dc:language>
  <cp:lastModifiedBy>CGB</cp:lastModifiedBy>
  <dcterms:modified xsi:type="dcterms:W3CDTF">2008-05-28T14:24:23Z</dcterms:modified>
  <cp:revision>3</cp:revision>
  <dc:subject/>
  <dc:title>A Presentation of ME</dc:title>
</cp:coreProperties>
</file>